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7B826-2D52-4C66-89BB-B928421AC4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342F1-156A-4A77-A427-D15373D19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54E1A-D68B-4947-812F-473923716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C9310-D307-4AE9-8F68-40BDEBB775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7488B-564A-4411-981B-EC7650B25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0E415-DACC-42B6-B586-C8C4F5FA7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FAA8E-9515-4E76-BB50-098BE26E9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F8064-AE9C-4170-A7FC-AB293D9E6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93112-EDCD-4120-9B5C-6FF222F9B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21E0E-1A29-43D3-8AEE-9B94BA656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73EB5-44FB-4825-AB4C-602D14A44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FA1BC-8394-4F96-84F5-C28570118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F3C45-CFDF-49C0-9CA4-09AA076C2E5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640" y="2276640"/>
            <a:ext cx="878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姑息性切除术：用于癌肿广泛浸润并转移、不能完全切除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9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胃癌，经积极术前准备后拟行胃癌根治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应如何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／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恐惧  与疼痛、患者对癌症的恐惧心理、治疗效果和预后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  长期食欲减退、消化吸收不良及癌肿导致的消耗增加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出血、十二指肠残端破裂、吻合口瘘、胃排空障碍、消化道梗阻、倾倒综合征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患者的营养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给患者口服肠道不吸收的抗生素，术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晚清洁灌肠，有幽门梗阻的患者术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起每晚用温生理盐水洗胃，以减轻胃黏膜的水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和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抗生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十二指肠残端破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吻合口破裂或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残胃蠕动无力或称胃排空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梗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倾倒综合征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umping syndrom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: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系由于胃大部分切除术后，失去对胃排空的控制，导致胃排空过速所产生的一系列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癌的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适当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不明确，可能与地域环境与饮食生活习惯、幽门螺杆菌感染、癌前疾病和癌前病变及遗传和基因因素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早期胃癌多无明显症状，随病情进展，症状日益加重，常有上腹疼痛、食欲不振、呕吐、乏力、消瘦等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胃癌的转移途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胃癌的临床特点、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胃癌术后的常见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胃癌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手术治疗为主，辅以化疗、放疗、免疫治疗等综合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护理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应缓解患者情绪，改善营养状况，做好胃肠道和呼吸道准备。术后要做好病情观察，胃肠减压管和腹腔引流管的护理，鼓励功能锻炼，给予营养支持，重点预防各种并发症的发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9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前开始出现上腹部隐痛不适，进食后明显，伴饱胀感，食欲逐渐下降，无明显恶心、呕吐及呕血，当地医院按“胃炎”进行治疗，稍好转。近半月自觉乏力，体重较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月前下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k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近日粪便色黑而就诊，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大便潜血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查血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Hb 96g/L,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进一步诊治收入院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一般状况尚可，浅表淋巴结未及肿大，皮肤无黄染，结膜甲床苍白，腹平坦，未见胃肠型及蠕动波，腹软，肝脾未及，腹部未及包块，剑突下区域深压痛，移动性浊音（－），肠鸣音正常，直肠指检未及异常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钡餐检查：胃窦小弯侧似见直径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小龛影，位于胃轮廓内，周围粘膜僵硬粗糙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：未见肝异常，胃肠部分检查不满意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胃癌多无明显症状，部分患者可有上腹隐痛、嗳气、反酸、食欲减退等症状，无特异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癌扩散的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纤维胃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钡餐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螺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幽门螺杆菌感染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慢性良性胃部疾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560" y="1371240"/>
            <a:ext cx="4771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式胃大部切除术：即在胃大部切除后将残胃与十二指肠吻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5796000" y="1125360"/>
            <a:ext cx="3168720" cy="46292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2"/>
          <p:cNvSpPr/>
          <p:nvPr/>
        </p:nvSpPr>
        <p:spPr>
          <a:xfrm>
            <a:off x="6369120" y="5956200"/>
            <a:ext cx="277488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Calibri"/>
              </a:rPr>
              <a:t>毕</a:t>
            </a:r>
            <a:r>
              <a:rPr b="0" lang="en-US" sz="1600" spc="-1" strike="noStrike">
                <a:solidFill>
                  <a:srgbClr val="046ca6"/>
                </a:solidFill>
                <a:latin typeface="Calibri"/>
              </a:rPr>
              <a:t>I</a:t>
            </a:r>
            <a:r>
              <a:rPr b="0" lang="zh-CN" sz="1600" spc="-1" strike="noStrike">
                <a:solidFill>
                  <a:srgbClr val="046ca6"/>
                </a:solidFill>
                <a:latin typeface="Calibri"/>
              </a:rPr>
              <a:t>式胃大部切除术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4991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式胃大部切除术：即胃大部切除后残胃与空肠吻合，十二指肠残端关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6012000" y="5300640"/>
            <a:ext cx="277488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Arial"/>
              </a:rPr>
              <a:t>毕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</a:rPr>
              <a:t>II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</a:rPr>
              <a:t>式胃大部切除术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292720" y="1844640"/>
            <a:ext cx="388296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560" y="1371240"/>
            <a:ext cx="520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胃大部切除后胃空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oux-en-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吻合术：即胃大部切除后关闭十二指肠残端，在距十二指肠悬韧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处切断空肠，将残胃和远端空肠吻合，距此吻合口以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0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处与空肠近侧断端吻合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5530680" y="1268280"/>
            <a:ext cx="3149640" cy="43578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4"/>
          <p:cNvSpPr/>
          <p:nvPr/>
        </p:nvSpPr>
        <p:spPr>
          <a:xfrm>
            <a:off x="5530680" y="5877000"/>
            <a:ext cx="361332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Calibri"/>
              </a:rPr>
              <a:t>胃大部切除后胃空肠</a:t>
            </a:r>
            <a:r>
              <a:rPr b="0" lang="en-US" sz="1600" spc="-1" strike="noStrike">
                <a:solidFill>
                  <a:srgbClr val="046ca6"/>
                </a:solidFill>
                <a:latin typeface="Calibri"/>
              </a:rPr>
              <a:t>Roux-en-Y</a:t>
            </a:r>
            <a:r>
              <a:rPr b="0" lang="zh-CN" sz="1600" spc="-1" strike="noStrike">
                <a:solidFill>
                  <a:srgbClr val="046ca6"/>
                </a:solidFill>
                <a:latin typeface="Calibri"/>
              </a:rPr>
              <a:t>吻合术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04:38:39Z</dcterms:modified>
  <cp:revision>87</cp:revision>
  <dc:subject/>
  <dc:title>内科护理学</dc:title>
</cp:coreProperties>
</file>